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87D-D94D-450A-8036-43A7EEA3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27D-683A-4F1B-A97C-1BC41277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7DC-CC41-4898-8088-F7D62CAF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62B-2F0E-4A13-B8B9-15B6D6A7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2442-373F-4D3E-B71F-8385125E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DF7-C709-4FB1-9F3E-8296092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C422-3747-48DA-95C6-EF7C3BB0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AFDF-62FD-4E8E-B0AE-966DC5A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787D-523C-476D-A80F-C564BE4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B02-0929-4816-AFA8-4B3C20E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DE5-827E-4CF2-B141-62B14211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0C7-958B-4470-B27A-BAC741F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7047-0FA5-4624-A1C9-A1E483D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093-7FDB-452F-B0C2-D0CC036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3DB-1D6E-4382-8AD9-0AF6E13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29FD-38BB-4640-A344-4E1D83DF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D5D-719F-401B-8E9C-BE6B48A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664-481F-4D99-AB3D-3A09B87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60-D7ED-40C5-B2B6-F817F2D9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AE4-E5C7-4EB1-B76A-1118BFC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9A0-D7C7-4B60-B7DC-096F751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2C1-80F2-4C0B-90FF-B3F3E42C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4BB-32D6-4A47-A488-6E15268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D34-8D79-4293-A21F-AE5FB22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5732-B318-4FA1-9BFF-5B509BE706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33D-66EE-4961-9B5A-B84DDFA448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83908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</a:t>
            </a: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ti pojmovi o građi 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ionisanju </a:t>
            </a:r>
            <a:br>
              <a:rPr sz="4300"/>
            </a:br>
            <a:r>
              <a:rPr b="0" lang="sr-Latn-C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og sistem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an Aleksi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SmartArt Placeholder 8198"/>
          <p:cNvGrpSpPr/>
          <p:nvPr/>
        </p:nvGrpSpPr>
        <p:grpSpPr>
          <a:xfrm>
            <a:off x="0" y="838080"/>
            <a:ext cx="9143280" cy="5789520"/>
            <a:chOff x="0" y="838080"/>
            <a:chExt cx="9143280" cy="5789520"/>
          </a:xfrm>
        </p:grpSpPr>
        <p:cxnSp>
          <p:nvCxnSpPr>
            <p:cNvPr id="115" name="_s4100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2240" y="2132280"/>
              <a:ext cx="1158480" cy="32007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4101"/>
            <p:cNvCxnSpPr>
              <a:stCxn id="119" idx="0"/>
              <a:endCxn id="117" idx="2"/>
            </p:cNvCxnSpPr>
            <p:nvPr/>
          </p:nvCxnSpPr>
          <p:spPr>
            <a:xfrm flipV="1">
              <a:off x="4571280" y="3153600"/>
              <a:ext cx="3240" cy="115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4102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391840" y="2132280"/>
              <a:ext cx="1158480" cy="32007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4103"/>
            <p:cNvSpPr/>
            <p:nvPr/>
          </p:nvSpPr>
          <p:spPr>
            <a:xfrm>
              <a:off x="3200040" y="83808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Nervni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sistem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4104"/>
            <p:cNvSpPr/>
            <p:nvPr/>
          </p:nvSpPr>
          <p:spPr>
            <a:xfrm>
              <a:off x="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Central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_s4105"/>
            <p:cNvSpPr/>
            <p:nvPr/>
          </p:nvSpPr>
          <p:spPr>
            <a:xfrm>
              <a:off x="320004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Perifer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4106"/>
            <p:cNvSpPr/>
            <p:nvPr/>
          </p:nvSpPr>
          <p:spPr>
            <a:xfrm>
              <a:off x="6400440" y="4311720"/>
              <a:ext cx="2742840" cy="23158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Autonomni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m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čm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e hemisf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antn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te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bel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siv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bički si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a mozg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va ma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a površ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5mm do 5m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slojev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 polja po Brodmann-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 i analizira informac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odi ih u vezu sa ranijim iskustvi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eira odgov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bela mas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kciona vlakna – putevi (piramidn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isuralna vlakna (corpus callosu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ocijativna vlakna (u istoj hemisfer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kortikalna siva mas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 ekstrapiramidnog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azalne gangl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ala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ipotala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bički siste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iji deo mozg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jalni i bazalni delovi hemisf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aša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ceralni moza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encefal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žena možd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dano stabl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i za: - Disa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rčani rad i krvoto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gulaciju budnosti i spava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utanj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vraćanj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ra kranijalnih nerav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lezije klinički značaj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9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Uvod u neurologiju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i pojmovi o građi i funkcionisanju nervnog sistem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ški simptomi i znaci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i razvojna regresij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br>
              <a:rPr sz="2900"/>
            </a:br>
            <a:r>
              <a:rPr b="0" lang="sr-Latn-R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oduzetos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kularna form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 moždanog stab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cija- buđen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zija- ko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cija budnosti i spava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i 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hicerebelu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 vezi sa vestibularnim sistemom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džavanje ravnotež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cerebel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 impulse iz mišića i tetiva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ontrola tonusa mišića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cerebelu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 impulse iz ko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koordiniše pokre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čmena moždi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kičmenom kanal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vrlo malom prostoru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vi motorni izlazni put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vi senzitivni ulazni put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ni 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getativ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novna jedinica građe 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 razlikuje se bitno od najnižih živih bica koji imaju 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o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lazma membr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ćelijske organe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tavc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ndriti – impulsi ka telu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urit (akson) - impulsi od tela neu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ugi i veše od 1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liki broj završetaka na kraj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aps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to kontakta dva neuro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aptička pukotina 300 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an neuron – više transmite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kscitator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hibitor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naptički recepto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inaptički recepto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makološka blokad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jalno tk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porna ulog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neuron – 9 glijalnih ćel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stroci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oligodendroci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e ćelij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 milijard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ovane u ogroman broj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i za proste reflek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loženi za složene aktivnos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ija ovih sistema je urođe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ćnost razvijanja novih sistema (talent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SmartArt Placeholder 22534"/>
          <p:cNvGrpSpPr/>
          <p:nvPr/>
        </p:nvGrpSpPr>
        <p:grpSpPr>
          <a:xfrm>
            <a:off x="465120" y="1066680"/>
            <a:ext cx="8228520" cy="5637600"/>
            <a:chOff x="465120" y="1066680"/>
            <a:chExt cx="8228520" cy="563760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5123160" y="2777760"/>
              <a:ext cx="1127880" cy="2215440"/>
            </a:xfrm>
            <a:prstGeom prst="bentConnector3">
              <a:avLst>
                <a:gd name="adj1" fmla="val 101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H="1" flipV="1" rot="5400000">
              <a:off x="2907360" y="2777760"/>
              <a:ext cx="1127880" cy="2216160"/>
            </a:xfrm>
            <a:prstGeom prst="bentConnector3">
              <a:avLst>
                <a:gd name="adj1" fmla="val 101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1030"/>
            <p:cNvSpPr/>
            <p:nvPr/>
          </p:nvSpPr>
          <p:spPr>
            <a:xfrm>
              <a:off x="2680920" y="106668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1031"/>
            <p:cNvSpPr/>
            <p:nvPr/>
          </p:nvSpPr>
          <p:spPr>
            <a:xfrm>
              <a:off x="465120" y="444924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_s1032"/>
            <p:cNvSpPr/>
            <p:nvPr/>
          </p:nvSpPr>
          <p:spPr>
            <a:xfrm>
              <a:off x="4896000" y="4449240"/>
              <a:ext cx="3797640" cy="22550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Hirurgij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ma organizacije nervnog sistem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Čula i senzitivni sistem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laz informacija iz spoljašnjeg svet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obrada informacija i kreiranje odgovora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rentni sistemi - efektor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akcij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 na bilo kom nivo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neurološka dijagnostika - funkcionalna dijagnostik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tičnost mozg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sobnost mozga da se menja strukturno u odgovoru na stimul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perimenti na životinja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askulogeneza (angiogenez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naptoge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uroge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tom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ni simpto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zitivni simpto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i razvojna regresij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br>
              <a:rPr sz="3600"/>
            </a:b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homotorni razvoj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novni principi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je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tinuiran proces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i počinje začećem i čije je odvijanje omoguđeno sazrevanjem nervnog sist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ape razvoja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te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sve dece ali je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tam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jihovog ispoljavanja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dividuala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razlikuje se od deteta do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azvoj motornih sposobnosti se odvija od nediferencirane i masovne aktivnosti ka specifičnim reakcija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azvoj se odvija </a:t>
            </a:r>
            <a:r>
              <a:rPr b="0" lang="sr-Latn-C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u kraniokaudalnom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eru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spostavljanje kontrole glave i upotreba šaka prethodi samostalnom hodu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arne (automatske) reakcije moraju nestati (refleks hvatanja, automatski hod), da bi u određenoj etapi razvoja došlo do sticanja novih, razvijenih motornih obraza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an razvo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poren razvoj – sporije usvajanje pojedinih funkcija  “razvojni miljokazi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a regresija – gubitak ranije postojećih funk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motornih sposobnos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esna kontrola držanja glave prisutna na rođenju – nervi koji inervišu ekstenzore glave najranije se mijelinizu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ski hod – prisutan na rođenju, slabi i nestaje tokom prvih nekoliko nedelja živo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manipulativnih sposobnost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no refleksno hvatanje preovlađuje prvih 8-12 nedelja živo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4 nedelje života šake su zatvorene da bi se sve više otvarale i palac odmicao od dl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4. meseca – voljno hvatanje ponuđene igrač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 6 meseci dete aktivno poseže za predmet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o 10 meseci počinje da hvata predmete vrhom kažiprsta i vrhom palca “pincetni hv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razvoj manipulativnih sposobnosti bolje ukazuje na nivo inteligencije nego razvoj grube motori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ojava pincetnog hvata isključuje mentalni deficit sa velikom verovatnoć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čula vida i sluh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or jake svetlosti – optički refleks trept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vor jakog zvuka – akustički refleks trept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orođeno dete reaguje na izvore zvuka menjanjem spontane motorike i mimike, Moroovim refleksom, plačem i treptanj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cija izvora zvuka okretanjem glave sve bolja od 3. mese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martArt Placeholder 24582"/>
          <p:cNvGrpSpPr/>
          <p:nvPr/>
        </p:nvGrpSpPr>
        <p:grpSpPr>
          <a:xfrm>
            <a:off x="304920" y="380880"/>
            <a:ext cx="8838360" cy="6246720"/>
            <a:chOff x="304920" y="380880"/>
            <a:chExt cx="8838360" cy="624672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V="1" rot="16200000">
              <a:off x="5645880" y="1956960"/>
              <a:ext cx="1249920" cy="309420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>
              <a:off x="4723920" y="2879280"/>
              <a:ext cx="3240" cy="124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H="1" flipV="1" rot="5400000">
              <a:off x="2552040" y="1956960"/>
              <a:ext cx="1249920" cy="309420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" name="_s2055"/>
            <p:cNvSpPr/>
            <p:nvPr/>
          </p:nvSpPr>
          <p:spPr>
            <a:xfrm>
              <a:off x="3398400" y="38088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2056"/>
            <p:cNvSpPr/>
            <p:nvPr/>
          </p:nvSpPr>
          <p:spPr>
            <a:xfrm>
              <a:off x="30492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57"/>
            <p:cNvSpPr/>
            <p:nvPr/>
          </p:nvSpPr>
          <p:spPr>
            <a:xfrm>
              <a:off x="339840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terna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edicin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2058"/>
            <p:cNvSpPr/>
            <p:nvPr/>
          </p:nvSpPr>
          <p:spPr>
            <a:xfrm>
              <a:off x="6491880" y="4128840"/>
              <a:ext cx="2651400" cy="2498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Infektivne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bolesti………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 socijalnih kontakata i govor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unikacija mimikom lica značajna za kasniji psihosocijalni razvoj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razvo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motornog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psihičkog razvo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 usporenog razvoja – progresivna i neprogresivna oštećenja mozga u razvo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 razvojne regresije – 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a regres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bitak motornih ili intelektualnih funkcija koje su ranije postojale kod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ija kliničke sli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nove neurološke simptomatolog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k - 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nedovoljnog razvoja mentalnih sposobnosti i poremećaja ponašanja koji ih p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encija – bogataš koji je osiromaš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 – siromah koji nikada nije bio bogat (nikada nije razvio svoje intelektualne kapacitet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o retardirane ili oligofrene os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boka retardacija – idiotija IQ 0-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ška retardacija – imbecilitas IQ 20-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erena retardacija – debilitas IQ 50-7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ga retardacija IQ 70-9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alna retardac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ro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omozomski poremećaj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tičke mut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 mozga tokom trudnoće, porođaja ili nakon njega (infekcije, asfiks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ivne bolesti 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seudoretardacija – nedostatak stimulacije deteta može dovesti do zaostajanja u mentalnom razvo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je hipoto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stojanje neuobičajenih položaja tel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manjenje otpora tokom pasivnih pokr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liki opseg mobilnosti u svim zglobov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drom mlitavog dete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li je dete samo mlitavo uz očuvanu G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li je dete mlitavo uz pareze i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l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ledati bolesti majke M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kalna mlitavost (pleksus brahijalis) ili generalizov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rogresivni poremećaj motornih funkcija, položaja i pokreta usled poremećaja i oštećenja struktur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šteće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uterin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om porođa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vim godinama život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e majk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ra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ngenitalne malform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erani porođa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ernikter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sfiksija plo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stnatalna zapaljenj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SmartArt Placeholder 26630"/>
          <p:cNvGrpSpPr/>
          <p:nvPr/>
        </p:nvGrpSpPr>
        <p:grpSpPr>
          <a:xfrm>
            <a:off x="1109520" y="286920"/>
            <a:ext cx="6924600" cy="4669560"/>
            <a:chOff x="1109520" y="286920"/>
            <a:chExt cx="6924600" cy="4669560"/>
          </a:xfrm>
        </p:grpSpPr>
        <p:sp>
          <p:nvSpPr>
            <p:cNvPr id="100" name="_s3076"/>
            <p:cNvSpPr/>
            <p:nvPr/>
          </p:nvSpPr>
          <p:spPr>
            <a:xfrm>
              <a:off x="3634920" y="1115280"/>
              <a:ext cx="1873440" cy="23713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3077"/>
            <p:cNvSpPr/>
            <p:nvPr/>
          </p:nvSpPr>
          <p:spPr>
            <a:xfrm>
              <a:off x="3634920" y="286920"/>
              <a:ext cx="18734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3078"/>
            <p:cNvSpPr/>
            <p:nvPr/>
          </p:nvSpPr>
          <p:spPr>
            <a:xfrm>
              <a:off x="4250520" y="2468520"/>
              <a:ext cx="1873440" cy="23713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3079"/>
            <p:cNvSpPr/>
            <p:nvPr/>
          </p:nvSpPr>
          <p:spPr>
            <a:xfrm>
              <a:off x="6161040" y="4364640"/>
              <a:ext cx="187308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Neurolog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3080"/>
            <p:cNvSpPr/>
            <p:nvPr/>
          </p:nvSpPr>
          <p:spPr>
            <a:xfrm>
              <a:off x="3017880" y="2466360"/>
              <a:ext cx="1873080" cy="23713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3081"/>
            <p:cNvSpPr/>
            <p:nvPr/>
          </p:nvSpPr>
          <p:spPr>
            <a:xfrm>
              <a:off x="1109520" y="4364640"/>
              <a:ext cx="187308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Psihijatrij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kši obli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 poremećaj u finoj motornoj kontroli i oštećenja specifičnih kortikalnih funkcija – disfazije, disleksije, diskalkulije, dispraks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te nespretno ali hiperkinetsk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čja cerebralna parali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ža ošteće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tonija do 6 mese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onični i horeoatetozni pokre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inuirana spastičnost+ diskinez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na zaostal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lep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štano zglobne deform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i vida i sluh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i (rubela majk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kterije (sifili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ziti (toksoplazmoz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natalna asfik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ođajna trauma moz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ugotrajni porođa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arlični položaj plo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rimena forcepsa ili vaku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ška žutica (Rh inkompatibil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kularne lez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efalitis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itis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tična oduzet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na defektnost (oligofrenij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leps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voljni pokret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aksi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fikac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a diple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a kvadriple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inet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pleg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ksična cerebralna parali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egia spastica infantilis – Morbus Litt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i spastični (aduktori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azast h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ipare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trofija ekstrem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tremiteti su krać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poren psihomotorni razvoj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hodaju kas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ovore kas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cijalna dijagno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 progres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je se popravl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tomats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ilna ishra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ikalna terap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kacioni program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ektivne oper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ske bolesti nervnog sist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vojne anomalije 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nog sistem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aniosteno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pravilan ol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ephalia (nasledn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cephalia (makrencephalia sa strukturnim anomalijam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cephalu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kupljanje likvora u likvornim prostori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terano luče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ežano otica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kusija- zvuk naprslog lon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brekle vene na čel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gled zalazećeg sun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no dobra inteligen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cephal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genital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čen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unikativn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komunikativ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: medikamentozna i hirurš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hishisi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 spajanja dorzalnih srednjih struktura primitivne nervne ce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srednje lin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andy Walker (nedostatak srednjeg cererebelum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pina bifi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ce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mijeloce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ijeva malformac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uštanje dela cerebeluma u kičmeni ka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uštanje produžene moždine sa IV komorom u kičmeni kan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voren foramen occipitale magn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rocefal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ijeva malformac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adolescentnom dob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jagnoza – M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g – 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apija - hirurš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ke bolesti - etiologij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roorganiz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skularn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plaz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ksikacij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sk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ođeni biohemijski poremećaj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iopatske boles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za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že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instve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ški pojmov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za/parali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este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este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ks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orefleksija/arefleks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tič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az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7:02:06Z</dcterms:created>
  <dc:creator>User</dc:creator>
  <dc:description/>
  <dc:language>en-US</dc:language>
  <cp:lastModifiedBy>Dejan Aleksic</cp:lastModifiedBy>
  <dcterms:modified xsi:type="dcterms:W3CDTF">2021-09-22T06:04:47Z</dcterms:modified>
  <cp:revision>61</cp:revision>
  <dc:subject/>
  <dc:title>Opšti pojmovi  o građi i  funkcionisanju nervnog sistema</dc:title>
</cp:coreProperties>
</file>